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495-B92D-4C53-ABDD-96C13B05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802-96D1-4A4B-8173-1A70EE26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213-A38F-4E9F-8111-2F0973CB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503-029E-401E-823E-656CAC52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693-9E63-4B85-89D6-28C4DB87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4AD-23B9-402A-998D-B581D25F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CF3-5FA2-4222-A06B-3B7D7F9C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4FD-C7E6-498D-B86E-125D0C96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A22-17EC-4F2A-9D95-A1D1842C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0AB-827A-4D34-812F-4BA8019A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569-A9F3-4922-B93E-59278F3C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455-5294-42B9-A6D0-AE1403FF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7189-E691-4554-83C2-35D805A818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4437000" y="39528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4149720" y="343080"/>
            <a:ext cx="244800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шению Собрания депута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асского городского округ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________________№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349360" y="1692360"/>
            <a:ext cx="27370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Заявка (обращение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юридического или физического лиц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492280" y="2411280"/>
            <a:ext cx="24274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Администр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Миасского городского окру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2492280" y="6156360"/>
            <a:ext cx="25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Челябинское УФА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Росс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3716280" y="2195640"/>
            <a:ext cx="73080" cy="215640"/>
          </a:xfrm>
          <a:prstGeom prst="downArrow">
            <a:avLst>
              <a:gd name="adj1" fmla="val 50000"/>
              <a:gd name="adj2" fmla="val 7376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4"/>
          <p:cNvSpPr/>
          <p:nvPr/>
        </p:nvSpPr>
        <p:spPr>
          <a:xfrm>
            <a:off x="3716280" y="2987640"/>
            <a:ext cx="73080" cy="216000"/>
          </a:xfrm>
          <a:prstGeom prst="downArrow">
            <a:avLst>
              <a:gd name="adj1" fmla="val 50000"/>
              <a:gd name="adj2" fmla="val 738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2565360" y="3995640"/>
            <a:ext cx="23036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Комитет по имуществу Администрац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Миасского городского  окру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6"/>
          <p:cNvSpPr/>
          <p:nvPr/>
        </p:nvSpPr>
        <p:spPr>
          <a:xfrm>
            <a:off x="3716280" y="3780000"/>
            <a:ext cx="73080" cy="215640"/>
          </a:xfrm>
          <a:prstGeom prst="downArrow">
            <a:avLst>
              <a:gd name="adj1" fmla="val 50000"/>
              <a:gd name="adj2" fmla="val 7376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2852640" y="4572000"/>
            <a:ext cx="18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Управление экономи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765000" y="4643280"/>
            <a:ext cx="165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Финансовое управле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Миасского городского окру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5084640" y="4643280"/>
            <a:ext cx="158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Координационный сове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по развитию малого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среднег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предприниматель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2280" y="5292720"/>
            <a:ext cx="25923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Комитет п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имуществу Администрации Миасског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городского окру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1773360" y="3203640"/>
            <a:ext cx="38178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Постоянно действующая Комиссия по вопросам оперативн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Распоряжения муниципальным имуществом, находящимся 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муниципальной  собственности Миасского городского окру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1989000" y="7596360"/>
            <a:ext cx="3961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Постановление Администрации Миасского городского окру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1700280" y="6875640"/>
            <a:ext cx="44654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Комитет по имуществу Администрации  Миасского городского окру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4"/>
          <p:cNvSpPr/>
          <p:nvPr/>
        </p:nvSpPr>
        <p:spPr>
          <a:xfrm>
            <a:off x="3716280" y="4356000"/>
            <a:ext cx="73080" cy="216000"/>
          </a:xfrm>
          <a:prstGeom prst="downArrow">
            <a:avLst>
              <a:gd name="adj1" fmla="val 50000"/>
              <a:gd name="adj2" fmla="val 738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27"/>
          <p:cNvCxnSpPr/>
          <p:nvPr/>
        </p:nvCxnSpPr>
        <p:spPr>
          <a:xfrm flipH="1">
            <a:off x="1483920" y="4140000"/>
            <a:ext cx="100872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AutoShape 28"/>
          <p:cNvCxnSpPr/>
          <p:nvPr/>
        </p:nvCxnSpPr>
        <p:spPr>
          <a:xfrm>
            <a:off x="4941720" y="4140000"/>
            <a:ext cx="93600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AutoShape 30"/>
          <p:cNvSpPr/>
          <p:nvPr/>
        </p:nvSpPr>
        <p:spPr>
          <a:xfrm>
            <a:off x="3716280" y="5003640"/>
            <a:ext cx="73080" cy="287640"/>
          </a:xfrm>
          <a:prstGeom prst="downArrow">
            <a:avLst>
              <a:gd name="adj1" fmla="val 50000"/>
              <a:gd name="adj2" fmla="val 983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2"/>
          <p:cNvSpPr/>
          <p:nvPr/>
        </p:nvSpPr>
        <p:spPr>
          <a:xfrm>
            <a:off x="3716280" y="5940360"/>
            <a:ext cx="73080" cy="216000"/>
          </a:xfrm>
          <a:prstGeom prst="downArrow">
            <a:avLst>
              <a:gd name="adj1" fmla="val 50000"/>
              <a:gd name="adj2" fmla="val 738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3"/>
          <p:cNvSpPr/>
          <p:nvPr/>
        </p:nvSpPr>
        <p:spPr>
          <a:xfrm>
            <a:off x="3716280" y="6659640"/>
            <a:ext cx="73080" cy="216000"/>
          </a:xfrm>
          <a:prstGeom prst="downArrow">
            <a:avLst>
              <a:gd name="adj1" fmla="val 50000"/>
              <a:gd name="adj2" fmla="val 738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3716280" y="7380360"/>
            <a:ext cx="73080" cy="216000"/>
          </a:xfrm>
          <a:prstGeom prst="downArrow">
            <a:avLst>
              <a:gd name="adj1" fmla="val 50000"/>
              <a:gd name="adj2" fmla="val 738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AutoShape 35"/>
          <p:cNvCxnSpPr/>
          <p:nvPr/>
        </p:nvCxnSpPr>
        <p:spPr>
          <a:xfrm flipH="1">
            <a:off x="4796640" y="5435640"/>
            <a:ext cx="10803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36"/>
          <p:cNvCxnSpPr/>
          <p:nvPr/>
        </p:nvCxnSpPr>
        <p:spPr>
          <a:xfrm>
            <a:off x="1557000" y="5363640"/>
            <a:ext cx="115164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Rectangle 38"/>
          <p:cNvSpPr/>
          <p:nvPr/>
        </p:nvSpPr>
        <p:spPr>
          <a:xfrm>
            <a:off x="3933720" y="378000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9"/>
          <p:cNvSpPr/>
          <p:nvPr/>
        </p:nvSpPr>
        <p:spPr>
          <a:xfrm>
            <a:off x="4005360" y="435600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Подготовка вариантов расчет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недополучения сумм бюджето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3933720" y="493236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аключение о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Целесообразност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едоставления ОУ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3860640" y="5940360"/>
            <a:ext cx="71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 дн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2"/>
          <p:cNvSpPr/>
          <p:nvPr/>
        </p:nvSpPr>
        <p:spPr>
          <a:xfrm>
            <a:off x="3933720" y="6588000"/>
            <a:ext cx="230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ешение ФАС положительное или отрицательное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3"/>
          <p:cNvSpPr/>
          <p:nvPr/>
        </p:nvSpPr>
        <p:spPr>
          <a:xfrm>
            <a:off x="3860640" y="7380360"/>
            <a:ext cx="71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4 дн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4"/>
          <p:cNvSpPr/>
          <p:nvPr/>
        </p:nvSpPr>
        <p:spPr>
          <a:xfrm>
            <a:off x="5229360" y="5724360"/>
            <a:ext cx="7189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0 дне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5"/>
          <p:cNvSpPr/>
          <p:nvPr/>
        </p:nvSpPr>
        <p:spPr>
          <a:xfrm>
            <a:off x="1628640" y="5651640"/>
            <a:ext cx="71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0 дне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6"/>
          <p:cNvSpPr/>
          <p:nvPr/>
        </p:nvSpPr>
        <p:spPr>
          <a:xfrm>
            <a:off x="3860640" y="2987640"/>
            <a:ext cx="71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5 дне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8"/>
          <p:cNvSpPr/>
          <p:nvPr/>
        </p:nvSpPr>
        <p:spPr>
          <a:xfrm>
            <a:off x="4437000" y="6300720"/>
            <a:ext cx="71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0 дне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9"/>
          <p:cNvSpPr/>
          <p:nvPr/>
        </p:nvSpPr>
        <p:spPr>
          <a:xfrm>
            <a:off x="1989000" y="8317080"/>
            <a:ext cx="3961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lephant"/>
              </a:rPr>
              <a:t>Договор аренды или безвозмездного польз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0"/>
          <p:cNvSpPr/>
          <p:nvPr/>
        </p:nvSpPr>
        <p:spPr>
          <a:xfrm>
            <a:off x="3716280" y="8101080"/>
            <a:ext cx="73080" cy="216000"/>
          </a:xfrm>
          <a:prstGeom prst="downArrow">
            <a:avLst>
              <a:gd name="adj1" fmla="val 50000"/>
              <a:gd name="adj2" fmla="val 738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1"/>
          <p:cNvSpPr/>
          <p:nvPr/>
        </p:nvSpPr>
        <p:spPr>
          <a:xfrm>
            <a:off x="3860640" y="8101080"/>
            <a:ext cx="71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4 дн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3:56:13Z</dcterms:created>
  <dc:creator>-</dc:creator>
  <dc:description/>
  <dc:language>en-US</dc:language>
  <cp:lastModifiedBy>Julia</cp:lastModifiedBy>
  <dcterms:modified xsi:type="dcterms:W3CDTF">2015-03-23T10:53:17Z</dcterms:modified>
  <cp:revision>18</cp:revision>
  <dc:subject/>
  <dc:title>Слайд 1</dc:title>
</cp:coreProperties>
</file>