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E65-03D6-420D-B58E-957ACE59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EB8-E242-435F-9AD3-204E0E4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1D8-A360-4903-93F9-24AE8D7C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FFB-B5B2-4149-B9C6-4899F4C3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713-189D-4A91-9BC9-40206D8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9C2-CA1B-4059-9CED-1D0A8A7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B60-3FDF-479E-8120-54968BC3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95C-B797-4134-A721-8EF34DF5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E10-B554-487B-99B4-A05AD99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600-4649-4DA9-B522-BD75E17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618-41F7-49A1-96A4-8B140809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CA8-6BCF-4EC6-9168-11848D3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CBB-D99A-49D2-A0E6-C9F3BE759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тчет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Главы Миасского городского округа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. В. Войнов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 деятельности в 2014 году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11.jpg"/>
          <p:cNvPicPr/>
          <p:nvPr/>
        </p:nvPicPr>
        <p:blipFill>
          <a:blip r:embed="rId1"/>
          <a:stretch/>
        </p:blipFill>
        <p:spPr>
          <a:xfrm>
            <a:off x="428760" y="714240"/>
            <a:ext cx="8429400" cy="5500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3404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Награждение миасцев медалью за освобождение Белару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42920" y="614376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уководитель отделения посольства Республики Беларусь  в Екатеринбурге Виктор Поля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ручение ключей детям-сирота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12.jpg"/>
          <p:cNvPicPr/>
          <p:nvPr/>
        </p:nvPicPr>
        <p:blipFill>
          <a:blip r:embed="rId1"/>
          <a:stretch/>
        </p:blipFill>
        <p:spPr>
          <a:xfrm>
            <a:off x="214200" y="928800"/>
            <a:ext cx="864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льменский фестива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13.jpg"/>
          <p:cNvPicPr/>
          <p:nvPr/>
        </p:nvPicPr>
        <p:blipFill>
          <a:blip r:embed="rId1"/>
          <a:stretch/>
        </p:blipFill>
        <p:spPr>
          <a:xfrm>
            <a:off x="428760" y="1071720"/>
            <a:ext cx="8286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льменский фестива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3-1.jpg"/>
          <p:cNvPicPr/>
          <p:nvPr/>
        </p:nvPicPr>
        <p:blipFill>
          <a:blip r:embed="rId1"/>
          <a:stretch/>
        </p:blipFill>
        <p:spPr>
          <a:xfrm>
            <a:off x="357120" y="1000080"/>
            <a:ext cx="850104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дяной дожд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4.jpg"/>
          <p:cNvPicPr/>
          <p:nvPr/>
        </p:nvPicPr>
        <p:blipFill>
          <a:blip r:embed="rId1"/>
          <a:stretch/>
        </p:blipFill>
        <p:spPr>
          <a:xfrm>
            <a:off x="357120" y="92880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дяной дожд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14-1.jpg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етский сад «Ум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5.jpg"/>
          <p:cNvPicPr/>
          <p:nvPr/>
        </p:nvPicPr>
        <p:blipFill>
          <a:blip r:embed="rId1"/>
          <a:stretch/>
        </p:blipFill>
        <p:spPr>
          <a:xfrm>
            <a:off x="357120" y="85716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етский сад «Ум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15-1.jpg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етский сад «Ум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sadik-3.avi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53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Рисунок 3" descr="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520" y="356760"/>
            <a:ext cx="5429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Динамика миграции насел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378000" y="1163520"/>
            <a:ext cx="86025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Динамика численности постоянного населения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378000" y="1020600"/>
            <a:ext cx="83311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Структура объема промышленной продукции крупных и средних предприятий  по отраслям промышленности в 2014 году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857240"/>
            <a:ext cx="8472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Диаграмма 8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8572320" cy="4535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857160" y="1071720"/>
            <a:ext cx="74296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ышленный комплекс 70,9% от оборота организаций о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батывающие производства 91,6 % от общего объема,  в т.ч. ОАО «АЗ «УРАЛ» 39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Количество экономически активных малых предприятий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казатели социально-экономического развития Миасского городского округа и Челябинской области за 2014 год 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18960" y="1050840"/>
          <a:ext cx="8429760" cy="5540400"/>
        </p:xfrm>
        <a:graphic>
          <a:graphicData uri="http://schemas.openxmlformats.org/drawingml/2006/table">
            <a:tbl>
              <a:tblPr/>
              <a:tblGrid>
                <a:gridCol w="480960"/>
                <a:gridCol w="3538800"/>
                <a:gridCol w="637560"/>
                <a:gridCol w="649080"/>
                <a:gridCol w="972360"/>
                <a:gridCol w="991440"/>
                <a:gridCol w="1125000"/>
                <a:gridCol w="36000"/>
              </a:tblGrid>
              <a:tr h="142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.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% к соответсвующему периоду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яби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% к соответсвующему периоду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асский городской о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% к соответсвующему периоду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1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гружено товаров собственного производства, выполнено работ и услуг собственными силами по «чистым видам» экономической деятельности (по крупным и средним предприятия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350,3 мнл.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00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 промышленного производства по видам деятельности "Добыча полезных ископаемых", "Обрабатывающие производства", "Производство и распределение электроэнергии, газа и воды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75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начисленная з/плата на одного работника (по крупным и средним организациям)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 за 11 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95,9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75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вестиции в основной капитал за счет всех источников финансирования (по крупным и средним организация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 за 9 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0,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безработи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5840" y="1071720"/>
          <a:ext cx="8643960" cy="5540040"/>
        </p:xfrm>
        <a:graphic>
          <a:graphicData uri="http://schemas.openxmlformats.org/drawingml/2006/table">
            <a:tbl>
              <a:tblPr/>
              <a:tblGrid>
                <a:gridCol w="428400"/>
                <a:gridCol w="3695400"/>
                <a:gridCol w="653400"/>
                <a:gridCol w="664920"/>
                <a:gridCol w="998280"/>
                <a:gridCol w="1015560"/>
                <a:gridCol w="1153440"/>
                <a:gridCol w="36000"/>
              </a:tblGrid>
              <a:tr h="142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.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% к соответсвующему периоду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яби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% к соответсвующему периоду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асский городской о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% к соответсвующему периоду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1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гружено товаров собственного производства, выполнено работ и услуг собственными силами по «чистым видам» экономической деятельности (по крупным и средним предприятия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,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350,3 мнл.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00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екс промышленного производства по видам деятельности "Добыча полезных ископаемых", "Обрабатывающие производства", "Производство и распределение электроэнергии, газа и воды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75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месячная начисленная з/плата на одного работника (по крупным и средним организациям)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392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795,9 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75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вестиции в основной капитал за счет всех источников финансирования (по крупным и средним организация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50,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40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 безработи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инамика поступлений налоговых и неналоговых доходов по М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1"/>
          <p:cNvSpPr/>
          <p:nvPr/>
        </p:nvSpPr>
        <p:spPr>
          <a:xfrm>
            <a:off x="7224840" y="6885000"/>
            <a:ext cx="235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DE66-D783-4513-BE17-3FFC41C2B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8760" y="1214280"/>
          <a:ext cx="8358120" cy="5408640"/>
        </p:xfrm>
        <a:graphic>
          <a:graphicData uri="http://schemas.openxmlformats.org/drawingml/2006/table">
            <a:tbl>
              <a:tblPr/>
              <a:tblGrid>
                <a:gridCol w="1398600"/>
                <a:gridCol w="817560"/>
                <a:gridCol w="763560"/>
                <a:gridCol w="841320"/>
                <a:gridCol w="763560"/>
                <a:gridCol w="1638360"/>
                <a:gridCol w="2135160"/>
              </a:tblGrid>
              <a:tr h="516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 го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 ро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ро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уровню 201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в сопост. ус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юджет 2015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ержд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исполнению 2014 год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400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налоговые и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newsmiass.ru/news/2013/10/25/32855/2.jpg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619280" y="189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сессии Собрания депу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4T11:27:49Z</dcterms:created>
  <dc:creator>МГО</dc:creator>
  <dc:description/>
  <dc:language>en-US</dc:language>
  <cp:lastModifiedBy>Оксана</cp:lastModifiedBy>
  <dcterms:modified xsi:type="dcterms:W3CDTF">2015-03-13T09:27:15Z</dcterms:modified>
  <cp:revision>40</cp:revision>
  <dc:subject/>
  <dc:title>Слайд 1</dc:title>
</cp:coreProperties>
</file>